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9BDC-B4B0-4EA4-B416-91A839630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02DE-B175-4F8E-B758-7CB28D10B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208B-1BE5-4852-A7E7-D034C591A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53D7-9709-4059-B3AE-DF7FB7B41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83615-F734-44C8-ABC4-AEE892B20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13C22-E381-4E56-99AB-AE87DAC21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72D3C-6910-450E-9FEA-DE277F7F5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B0C59-4E46-42C6-A7EA-C01F8B882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38F5C-8B6B-478A-B347-8F0605771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AAD2A-72AD-48FC-8959-996F95BBB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735AB-C522-435F-8B02-631E82A1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503F-1DF2-4065-AD40-FB05C31AD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3CB30-F29C-4614-A02B-189058AC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6E63A-60E9-4AD0-A0CA-DA8A4381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CA2BE-86C8-4CBD-9A5D-0E6405AF1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A655B-6225-49C9-9675-486286B28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923DC-0877-4E49-9505-FABA3A7C5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473E-038D-4749-AE35-FC7698E57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A683-435C-4870-BFEA-153567294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9047-756D-4642-B74E-111DA241F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F3AD-DEA4-4C41-AB1C-9ABD4FF7E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02A4-A563-4AA7-A7E8-67794651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C067-7005-4E1F-B999-0F250ABD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4F6F-D334-449A-85DF-BB21B88A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B9A0B9-4861-48BD-B2E8-75E9E49648D7}" type="datetime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8C1B4C-1705-4466-A8D8-4EFECD53C650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2F9357-54D8-4A47-8CDC-ED9897858326}" type="datetime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127742-442F-4E21-8B31-D7E6297D799A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22280" y="1523880"/>
            <a:ext cx="6499440" cy="172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Animal Phyla Char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700"/>
            </a:br>
            <a:r>
              <a:rPr b="0" lang="en-US" sz="3700" spc="-1" strike="noStrike">
                <a:solidFill>
                  <a:srgbClr val="2c7c9f"/>
                </a:solidFill>
                <a:latin typeface="News Gothic MT"/>
              </a:rPr>
              <a:t>Respiration</a:t>
            </a:r>
            <a:br>
              <a:rPr sz="3700"/>
            </a:br>
            <a:endParaRPr b="0" lang="en-US" sz="37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Water vascular system; diffus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Text Placeholder 2" descr=""/>
          <p:cNvPicPr/>
          <p:nvPr/>
        </p:nvPicPr>
        <p:blipFill>
          <a:blip r:embed="rId2"/>
          <a:stretch/>
        </p:blipFill>
        <p:spPr>
          <a:xfrm>
            <a:off x="533520" y="838080"/>
            <a:ext cx="3809880" cy="5257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724280" y="1219320"/>
            <a:ext cx="38862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9880" y="107640"/>
            <a:ext cx="478152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Echinoderm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85" name="Text Placeholder 2" descr=""/>
          <p:cNvPicPr/>
          <p:nvPr/>
        </p:nvPicPr>
        <p:blipFill>
          <a:blip r:embed="rId2"/>
          <a:stretch/>
        </p:blipFill>
        <p:spPr>
          <a:xfrm>
            <a:off x="228600" y="108000"/>
            <a:ext cx="2514600" cy="26668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2743200" y="2514600"/>
            <a:ext cx="6229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208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 u="sng">
                <a:solidFill>
                  <a:srgbClr val="2c7c9f"/>
                </a:solidFill>
                <a:uFillTx/>
                <a:latin typeface="News Gothic MT"/>
              </a:rPr>
              <a:t>Miscellaneous:</a:t>
            </a:r>
            <a:r>
              <a:rPr b="0" lang="en-US" sz="4100" spc="-1" strike="noStrike">
                <a:solidFill>
                  <a:srgbClr val="2c7c9f"/>
                </a:solidFill>
                <a:latin typeface="News Gothic MT"/>
              </a:rPr>
              <a:t> </a:t>
            </a:r>
            <a:br>
              <a:rPr sz="4100"/>
            </a:br>
            <a:r>
              <a:rPr b="0" lang="en-US" sz="4100" spc="-1" strike="noStrike">
                <a:solidFill>
                  <a:srgbClr val="2c7c9f"/>
                </a:solidFill>
                <a:latin typeface="News Gothic MT"/>
              </a:rPr>
              <a:t>-Symmetry       -Body cavity</a:t>
            </a:r>
            <a:br>
              <a:rPr sz="4100"/>
            </a:br>
            <a:r>
              <a:rPr b="0" lang="en-US" sz="4100" spc="-1" strike="noStrike">
                <a:solidFill>
                  <a:srgbClr val="2c7c9f"/>
                </a:solidFill>
                <a:latin typeface="News Gothic MT"/>
              </a:rPr>
              <a:t> -Number of germ cell layers</a:t>
            </a:r>
            <a:endParaRPr b="0" lang="en-US" sz="4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Radial symmetry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oelomat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3 germ cell layer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Body Support/Movemen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49000" y="1980720"/>
            <a:ext cx="80420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Endoskeleton of hard plate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----------------------------------------------------------------------------------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Water vascular system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Nervous Control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49000" y="2209680"/>
            <a:ext cx="80420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Nerve ring with nerve cords along each arm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Reproduc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49000" y="2057040"/>
            <a:ext cx="8042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xual:  separate sexes with external fertiliza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Diges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0520" y="20570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hort tract with mouth &amp; anu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ircula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49000" y="1905120"/>
            <a:ext cx="8042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luid in body cavity transports nutrient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Excre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49000" y="1905120"/>
            <a:ext cx="8042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iffus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2T00:17:18Z</dcterms:created>
  <dc:creator>Keith or Sherri Holmgren</dc:creator>
  <dc:description/>
  <dc:language>en-US</dc:language>
  <cp:lastModifiedBy>NHS NPS</cp:lastModifiedBy>
  <dcterms:modified xsi:type="dcterms:W3CDTF">2012-05-15T14:25:01Z</dcterms:modified>
  <cp:revision>10</cp:revision>
  <dc:subject/>
  <dc:title>Animal Phyla Chart</dc:title>
</cp:coreProperties>
</file>